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D0D-C7B2-4B08-A5CB-D3D8AF82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73D-414B-4F08-9E2D-E694B82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474-1721-4010-A755-96921A3A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131-A251-4343-A3F5-7EC30DEB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087-35BC-4BAB-8BDF-98F72AAA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1E2E-975F-46C3-85A5-81FABB3B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8E80-BEC2-4C32-AD14-EBA2387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94FA-AE09-4CF9-8680-47728C97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BB2D-6A56-4D03-935E-C5017F9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9BF5-CF4A-42F8-A6EC-BF57448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BC07-07F0-413F-972F-B6760BA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DEA-309F-4792-94A5-29D0C61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DBF-0CAE-4DF6-99FA-739D4D7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87A-0299-4980-840E-F5CD7EB2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84C5-DBE0-404D-BBAD-76A44B2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7318-A736-4FD0-9233-59E36DD1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FAD6-E7CD-440C-AE3D-00D51941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597-FCF0-4547-B6AF-DC1ADF60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C45-7847-40D6-A5B3-1F89CCEB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9B1-5797-472B-A071-8ED3D1B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E8A-FFE4-4993-94F1-76CFE944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2FF-F364-47E3-B07D-28ED84F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B0E-23F5-4F5D-A3E0-FAC7C9B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EA9-9A22-418E-940C-B0C7D94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62" name="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6" name="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70" name="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4" name="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8" name="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82" name="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6" name="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90" name="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How Do I Get Out of Here?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s and Diploma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lor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Confounded" descr=""/>
          <p:cNvPicPr/>
          <p:nvPr/>
        </p:nvPicPr>
        <p:blipFill>
          <a:blip r:embed="rId1"/>
          <a:stretch/>
        </p:blipFill>
        <p:spPr>
          <a:xfrm>
            <a:off x="3809880" y="0"/>
            <a:ext cx="135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of Florida diploma (G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18 or older unless special circumstances a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parts to GE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districts, GED exit option a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ng score on GE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ng score in FC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receive district high school diploma and State of Florida high school dip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Certificate of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tudents who do not earn the required grade point a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tudents who do not earn a passing score on the FC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Students may take College Placement Test and enroll in credit or remedial courses at community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dditional Options for Students with Disabiliti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ndard Diploma with FCAT waiver or exem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gular or Special Certificate of Completion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Diploma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nshine State Standards for Specia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3 year, 18 credit programs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vailable to students choosing these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Certificate of Comple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 who are eligible for regular certificate of completion may obtain special diploma, opt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ertificate of completion is available for students who do not master the Sunshine State Standards for Specia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 have the right to continue working toward a standard diploma until age 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9876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ccountabi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Overwhelmed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24620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304920"/>
            <a:ext cx="8802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FCAT Alternative Assessment -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82160" y="1752120"/>
            <a:ext cx="881388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Diploma- students who attain scores on the ACT or SAT which equate to passing scores on the grade 10 FCAT will satisfy the assessment requirement for gradu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required to take the FCAT a total of three times in order to use the scores on the SAT or ACT as a substitution, unless new to Florida school in 12th gr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legislated for 2003-0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FC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ion in assessment is mandated of all students by stat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very small number of students, a special exemption may be requested if a student’s scores will reflect sensory, manual or speaking disability rather than 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220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Exemption from FCAT Requirement </a:t>
            </a:r>
            <a:br>
              <a:rPr sz="40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Graduation with a Standard Diplom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8764560" cy="383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ule 6A-1.09431, FAC, exemption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riteria include extraordinary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ircumstances when the results of the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CAT woul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eflect the student’s impaired sensory, manual, or speaking skills rather than the student’s achievement.”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Extraordinary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Circumstances</a:t>
            </a: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hysical conditions that affect the student’s ability to communicate in modes that are acceptable through accommodations provided for the statewide test.”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080" y="635040"/>
            <a:ext cx="78231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Requests for Exemption...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missioner of Education will determine if more documentation is needed and may request additional informati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missioner of Education will determine if criteria have been met, and may grant the request for exemption from one or both parts of the FC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oday’s Topic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i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loma options for all stud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al diploma options for 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AT and FCAT waiv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e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3200" y="539640"/>
            <a:ext cx="7678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..Requests for Exemption...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600" y="1758960"/>
            <a:ext cx="872820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udents who are granted a request must still meet all other requirements for graduation with a standard diplom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udents who are not granted a request and who have not shown mastery of FCAT skills are eligible for FAPE until age 22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4240" y="471600"/>
            <a:ext cx="733248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.Requests for Exemp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udents with disabilities who do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 meet requirements for a standard diploma may be eligible for an FCAT waiver, a certificate of completion or a special diplom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HB 1739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nhanced New Needed Opportunity for Better Life &amp; Education for Students with Disabilities (ENNOB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Definition of Student with a Disability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(s. 1007.02(2), F.S.)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tal retar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ring impairment, including deaf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ech or language impair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ual impairment, including blind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ious emotional disturbance, including an emotional handic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orthopedic impairment (including other health impairment or physical impair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raumatic brain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 learning disability, including, but not limited to, dyslexia, dyscalculia, or developmental aph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(s. 1003.43 F. S.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districts must provide instruction to prepare students with disabilities to demonstrate proficiency in the skills and competencies necessary for successful grade-to-grade progression and high school grad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CAT Waiver Eligibility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an I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are seniors or who remain enrolled under IDEA seeking a standard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shown mastery of Grade 10 Sunshine Stat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are progressing toward meeting the graduation requirement of 24 academic credits with a 2.0 or higher grade point average and any other distric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CAT Waiver Eligibility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taken the FCAT at least once in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de and once in the 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de, but have not attained a passing s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participated in intensive remediation for FCAT Reading and/or FCAT Mathematics, if passing scores were not 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CAT Waiver Eligibility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participated in the March FCAT administration in senio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whom the IEP team determines that the FCAT cannot accurately measure the student’s abilities, taking into consideration all allowable accommod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Times New Roman"/>
              </a:rPr>
              <a:t>Current Criteria for Exclusion from FCAT and Use of Alternate Assessmen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3640" y="344520"/>
            <a:ext cx="82375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9900"/>
                </a:solidFill>
                <a:latin typeface="Times New Roman"/>
              </a:rPr>
              <a:t>Current Criteria for Exclusion from State or District Assessments...</a:t>
            </a:r>
            <a:endParaRPr b="0" lang="en-US" sz="39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69284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riteria for IEP team to decid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lusion (Rule 6A-1.0943(a), FAC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student’s demonstrated cognitive ability prevents completion of coursework and achieving the SSS, even with modifications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student requires extensive direct instruction to learn competencies needed for domestic, community living, leisure, and vocational activit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he Transition Proce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s at age 14 (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de) or ear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n annual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s transition IEP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ploma decisions (can be chang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s needs in specific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..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riteria for Exclusion from State or District Assessments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ho are excluded must be assessed using an alternate assessment identified by the IEP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ho are excluded from the 10th grade FCAT based on Rule 6A-1.0943(a), FAC, wil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eligible for a standard high schoo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pecial Diplom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 have the right to continue working toward a standard diploma until age 22 (FA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o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mastery of Sunshine State Standards for Special Dip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number of cred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pecial Diplom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on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employment and community compe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mastery of Sunshine State Standards for Special Dip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successful employment for 1 sem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tery of annual goals and objectives related to employment and community compe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tery of competencies in training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lternate Assessmen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is made by the IEP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used for students not receiving instruction in the Sunshine Stat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enerally working toward a specia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Energized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0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standard diploma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 the mil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 post-secondary education institution, such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special diploma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join the mil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enroll in post-secondary education institutions, such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basic educatio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certificate of completion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enroll in post-secondary education institutions, such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basic educatio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GED (State of Florida diploma)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join the mil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roll in post-secondary education institutions, such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oints to Conside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-secondary career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ion in extra-curricula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urity level of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force 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obl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deter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he Transition Proce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planning for cred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earning a minimum 2.0 grade point average for standard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s passing the FCAT (or obtaining a waiver) for standard diploma stud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efore….. and Afte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14" name="Confounded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306880" cy="4657680"/>
          </a:xfrm>
          <a:prstGeom prst="rect">
            <a:avLst/>
          </a:prstGeom>
          <a:ln w="0">
            <a:noFill/>
          </a:ln>
        </p:spPr>
      </p:pic>
      <p:pic>
        <p:nvPicPr>
          <p:cNvPr id="215" name="Brave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2897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85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Unanswered Questions?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partment of Educ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ceptional Education and Student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0/245-0478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lly.Claude@fldoe.or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School Graduation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di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-year, 24 credit traditional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l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year, 18 credit college preparato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year, 18 credit career preparato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/SB 364- revised requirements to reflect course distribution and additional requirements for 3-year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813880" cy="48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llege prepar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6 of 18 credits must be honors, dual enrollment, AP, IB, Advanced International Certificate of Education, identified by DOE as rigorous, or weighted by districts for class ranking pur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di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Engl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Math at Algebra I or hig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Natural sciences (2 la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ocial science (1 American History, 1 World, 1/2 American Government, 1/2 econom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Foreign language (s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El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160" y="1143000"/>
            <a:ext cx="881388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reer prepar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Credi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Engl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Math (1 must be Algebra 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Natural sciences (2 la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ocial science (1 American History, 1 World, 1/2 American Govt., 1/2 econom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ingle vocational or career education program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career/ technical certificate dual enrollment courses, P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Electives  (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credits in vocational or career education co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160" y="1371240"/>
            <a:ext cx="881388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a meeting with student and parents to explain the requirements, advantages and disadvantages of e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that students submit parental consent  for three-year op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that students achieve a level 3 or higher on most recent FCAT (reading, math, writing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choice by end of ninth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3.0 GPA for three-year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160" y="1600200"/>
            <a:ext cx="881388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grade 10 (and again in grade 11), student performance will be examined and students who are not meeting requirements will change back to the 4 year o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733920" y="4114800"/>
          <a:ext cx="214632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114800"/>
                    <a:ext cx="21463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1:29:52Z</dcterms:created>
  <dc:creator>FL DOE/BISCS</dc:creator>
  <dc:description/>
  <dc:language>en-US</dc:language>
  <cp:lastModifiedBy>Kelly Claude</cp:lastModifiedBy>
  <cp:lastPrinted>2004-05-19T15:54:32Z</cp:lastPrinted>
  <dcterms:modified xsi:type="dcterms:W3CDTF">2004-05-19T15:54:43Z</dcterms:modified>
  <cp:revision>30</cp:revision>
  <dc:subject/>
  <dc:title>Getting the Best Fit</dc:title>
</cp:coreProperties>
</file>